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3DE-2373-4968-9410-05F47813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00E-CB04-476F-8729-4A3422EF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1A9-3265-41EE-93EE-03E9F31D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40E-ECB8-4F3C-B19F-0FEB9230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3F4-96F4-4A89-8E62-C0715022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679-1C9C-484F-8FCE-CFD980F8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5EB-A7A9-4984-80ED-BDAEE43E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633-DD43-4C81-976D-08C74587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ED6-F929-4B5F-BD53-CD769B8A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9AF-FF37-4221-BF66-B904707C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78B-702A-4834-B948-A1BF5CE5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DE6-EB43-48D7-B493-B2061537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EE83-36D5-468D-BC9E-7E06E5042917}" type="slidenum">
              <a:rPr b="0" lang="fa-I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762120"/>
          <a:ext cx="758196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8196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04:47:36Z</dcterms:created>
  <dc:creator>s_ab</dc:creator>
  <dc:description/>
  <dc:language>en-US</dc:language>
  <cp:lastModifiedBy>tamadon</cp:lastModifiedBy>
  <dcterms:modified xsi:type="dcterms:W3CDTF">2007-05-29T11:18:48Z</dcterms:modified>
  <cp:revision>3</cp:revision>
  <dc:subject/>
  <dc:title>Slide 1</dc:title>
</cp:coreProperties>
</file>