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F18-0CD6-45ED-9500-3ADD7B45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E52-6299-40FA-ACBD-F57A6C6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548-67EC-4A1E-BE8D-CA1722D3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661-46A9-4EBD-8C89-60267F6C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D43-AB61-46F7-995D-8A2EB71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F8-27F2-46A5-9045-F74D04C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935-4948-4627-832D-06D6997C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E66-A88F-41E0-898E-93F3741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0C6-5ACC-4D39-92EB-6BFD2DA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A10-037C-4AF5-A5BD-465C342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4AC-C882-4BC4-B875-4DEA190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2B1-D8AB-48AA-AF46-D7F8BFA6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E2F-5675-49AA-8750-B5A0E10E5F53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762120"/>
          <a:ext cx="758196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819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4:47:36Z</dcterms:created>
  <dc:creator>s_ab</dc:creator>
  <dc:description/>
  <dc:language>en-US</dc:language>
  <cp:lastModifiedBy>tamadon</cp:lastModifiedBy>
  <dcterms:modified xsi:type="dcterms:W3CDTF">2007-05-29T11:18:48Z</dcterms:modified>
  <cp:revision>3</cp:revision>
  <dc:subject/>
  <dc:title>Slide 1</dc:title>
</cp:coreProperties>
</file>